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D7C-2287-476C-A6FE-00381351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BE0-5785-4579-A287-A6CD0431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EAC68-1112-4709-B3BD-F7F2E502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29FA5-7D6F-48A1-8035-0D529035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1CF6C-189E-4A45-AFA2-537A1EB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4B9DD-8966-4526-BEC0-08545878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C5255-48D8-4F59-AAB8-A852EC97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0DB84-306D-41DC-A69E-794678D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535E8-9C51-4E67-98A8-3796A722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D083B-AAF8-4853-96FD-5A92386D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CB068-A403-4E7F-BFED-4DDD6915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757BF-2616-4199-8CBC-E3C07F94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2DE-562E-4FE8-B818-7318C1B5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33ADC-050D-443B-A4C9-2B646629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150DB-AA85-4C62-8398-230FDF39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D4A4F-7289-4284-B498-FDB50B32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9FA3E-AF1E-4203-AF19-1CD52587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47243-4FA7-4589-98B0-4B898105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CEE86-E6A9-4886-B394-70F24C8B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C3AE3-2276-4147-856E-3118B81F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E7E1F-100A-4AB0-B511-4D46F9F9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A6893-92ED-4EF8-9A99-EE0765CC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6E96C-FE9F-47F3-9C76-45BF9843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F54-088A-49D6-AC7A-B9B53750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97D3D-C825-438D-AB7E-AA1435FE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582B3-024C-48E9-97A8-D314564C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9242-5E12-4C84-93A1-D1A433C2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4B256-BA60-4449-BEB7-0B87F284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0EE64-3D80-4806-84C8-5C9747CF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1874-247F-42DD-8932-DB862B45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EE4C6-7C1C-479A-ADA8-E289B645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70B03-4109-41D1-B0C3-079DBDD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8BE80-738B-4F77-920D-C7B3C02E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56EC4-F2D7-4F5E-ABE7-055B39B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E550-E4BB-439E-999B-B44D5C57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4F5FC-BCAC-4DC0-9762-5E021105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1CFE3-68CC-46E2-90E3-CA993C6C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803A1-DC54-445C-9D9C-47C5B728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E6D7F-67FA-48A3-A0E2-BCB4467E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2C124-9EBB-46C0-AA8B-F23CBCF8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D27A4-CA17-4FB1-BBA7-622558C9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390CC-8C5B-4385-81B9-F2A0FD9E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F03A2-6AA7-4DFD-8B23-1CF26FE5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C2784-5E6F-43D2-839D-64113061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7E5FD-88FC-4E82-9819-2F7515D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17C6-8A0F-48F3-8383-E30AD28A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74E03-3D91-408C-B7E7-4BB92AEC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F670B-2806-4D75-8D98-F30B3459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B8CF1-08A5-419C-82CB-37603A84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EF234-0E63-467D-9415-761F7F25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5AD79-3A68-43AB-8CC6-FEE12616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BEBB-010D-4DCF-8A2E-A223512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DC59-3984-4F94-A985-8E0B20E8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AB20-A9F9-4FE4-BB89-D20FAF60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5E08-9291-47E2-9CC2-51DAFB0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6F12-971A-4A89-B76A-1C773936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31C-0AAC-4884-8467-39E225FF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74E6-7CE0-43C8-9F40-5D693B87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623E-5870-48C4-A9E5-B4261A7D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61A1-590C-4897-8730-27F6F218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6F6D-830A-4524-8711-81CFFEB4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B9D0-15E4-4B69-9918-7A73CCF1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A0A3-778B-4209-88FF-C0346DDE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0F1C-82F0-4582-834E-525DCFDD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5E04-0D28-4BF8-B10B-89CB9C2F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D3C0-8ADD-4E21-8A0B-17A4F58B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73BFA-62F5-498B-AD54-D83A4365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AD6-98B9-4565-B114-FC57940D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8D35-5B4B-4984-AA6B-24AF8F90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C16DA-FFCA-4EF3-85E9-363E1C4C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C3EC-2110-4E1B-B59D-48B2F367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2F10-A752-456C-9D31-7FDF75F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87C2-AC8C-4D64-8B9F-78BB604A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122B-CF48-4924-9EE1-3F374993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00085-49B6-4844-9745-A5A5C1B8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39192-16F0-46C6-BFF1-1E35BAC2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20E62-A086-49F5-AB3B-5CF457B8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33133-7BC3-4C55-B992-4280AEBD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8F1-F631-490A-82A1-7A8B8BF4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4D76-85F5-49ED-AE9F-F14746E6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807F8-D0D8-4F83-A93B-B27310F7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7BCF-83F2-41BA-ADF6-E5C21EEC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2EE4-2FE9-4E5E-90C5-1690FB6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43E5-D6F1-4580-9C4B-74CDDAE0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12C3A-4C25-4E4F-80D5-B00C0E61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CE8CE-7438-423E-89CA-0962B6E8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B11F-245F-47E9-BFA9-5A6D4EE5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2B939-C28A-430D-A03B-F4C5E6AC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B4E5C-A8D2-4CCF-83EF-5094B508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814-3B03-48A3-831C-74182995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E9A36-DFD9-4A8B-9253-E487EB62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8A1D3-DDD2-46A2-9C98-1C7919DD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FFE57-BAC8-4A9A-A613-7A151502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DE2AF-ED0A-484F-98CA-B179D55B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DB891-1D79-4F7E-876E-8F96A3C9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6B3CD-119A-4742-ACC2-4087EEA1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B3AD0-FA25-451A-B709-655300A9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FED4F-4121-4FCA-AE95-22814B2F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FC54D-F2AC-4105-BE8F-4C37DE1B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16357-EA82-41A8-94C0-19F283BC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1A1-9D9F-4EA7-800F-8C08D39B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AA99D-47E1-47BB-A3BF-45BF5C6F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19387-9C56-49FF-A5F9-189C263F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7350A-3167-4D38-97A7-9EB2E271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18E51-38FF-4B7B-AA9C-E10400DA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1BC95-932F-4BBC-8EEF-23C4E16B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C3D4F-9851-4C77-ADCA-50C020A6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AE90D-B7C3-4A56-AD0C-8A960922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6EBFB-A0C2-45EA-9FBD-F025876E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0CD98-F21D-4F2D-9307-AD5A218E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3AA0-7473-455F-930A-5C0D36D7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96D-81AA-40B6-8694-C597EF4C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21901-24B0-45C7-9CDE-90CC1AEB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E8BA3-045E-4CA8-BC1F-9B900251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9A060-3202-4A83-BDF9-8AE0ED57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FD51C-1E26-46E0-BAEA-8D4F6D3D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45E92-E9E8-44DB-9F82-BFCCD4C9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40499-565F-435D-9885-00A56A65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FB426-6EDA-4A09-A032-647DD014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07359-2C9C-4196-88B0-9B0E096C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E66A8-3651-42FB-9F35-7CED9721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0BA6F-6000-4FFD-93EB-4FD1389B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194-5C33-43F7-A293-2507D26B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CFC14-7EFA-4ECE-989F-6B08D2FD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DBB3E-3E40-4B02-B23A-E6858268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6D270-618C-479C-8B38-E08A4EE4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8FFBF-E5FC-45CB-9D77-47CD927D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C9748-3B17-427E-A5A1-A11B2697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0F572-EF67-44A1-B67F-377FEFE1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92115-FCB6-4F22-9B63-FA5F1F98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7C430-8990-4BA0-8F03-08DD25DF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E2157-B35B-46CB-9B3F-A262172D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C45CB-C1D9-481B-8874-93C8A76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E73-9AF7-467E-9092-F793C6C4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404A5-4E94-4F6B-B772-6615BC44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B34EF-9FB7-449B-AFDA-4317E90B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54A95-605B-47BB-BD0E-E4EEDBEE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281BF-388F-4884-BB6D-55C1B0B2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FF15A-F8BA-4EB1-961D-EF254269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15DD2-D58F-4DCE-A0D7-95E3A994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9DFDA-671F-45BD-BBE8-0B008F61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0BFEA-DA27-450D-A536-DADD3A5C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691CE-B752-4E31-9226-2FDE4CA3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A7AA8-EE68-4815-B27B-FAD5BE88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3094-446E-4768-99E4-E1DDED307F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11A5-425D-4BDB-AC39-575AF07D9F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21B2-1F00-426B-AC05-5D9CFF0536C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2EA9-5E8F-46AD-83A2-B736A96A28D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4B9E-2EB0-47C1-8CF4-278B1EB4D00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3DF1-23F5-409F-8493-276E5C56A7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1F62-465F-425A-B4F2-D8F5B9987B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CA5D-BCF0-45D2-A4EE-B7A7722307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0200-C367-43C5-8CD1-4237ADC417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D817-5F8E-41DA-9891-F3EBFEFED6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7BD6-2431-417E-975A-4E9F2EE9FE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4CDC-30B6-48AB-9F56-35E6287CBB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48 N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, Pane, okrem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ie už, Pane, okrem t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cem v svete m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m len tvojím učeník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slušným sa s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raz na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mojej biede okrem t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ik ma necháp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s´ ma láskou objal než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srdca mier v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raz na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ím je všetka sveta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smiem teba m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iac nad poklad tvojej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môžem si pri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raz na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to tebe dávam, Pane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asný život s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vrelou túžbou očakáv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lávny príchod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raz na novú z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7:03:59Z</dcterms:modified>
  <cp:revision>23</cp:revision>
  <dc:subject/>
  <dc:title>Je veľký náš Pán, on slávy je Kráľ Nech do všetkých strán  spev vrúcnych znie chvál.</dc:title>
</cp:coreProperties>
</file>